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C57-016C-41E9-B2D6-A81C5FD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C25-7D31-467B-835E-B5AF671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A5F-3B89-4356-894F-8ED7739B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E11-5843-4CA1-948B-B28D5CB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DE8-3EDF-4864-9E28-A9BB6A6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EBD-D603-41F5-8FEB-84B4916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85E-3ED0-445D-8BD3-E691ADA5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AB4-00FB-4383-B22B-876906F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456-5E47-47F3-9ECC-4A329A4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075-04BC-4C29-99F0-BD1AF84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A40-1AB7-4BB9-ACD9-DB470E3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9B3-E601-4387-B042-05ECF31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62E-03BA-41C8-8A3D-331EA0A332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rgosy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3b427798a"/>
          <p:cNvPicPr/>
          <p:nvPr/>
        </p:nvPicPr>
        <p:blipFill>
          <a:blip r:embed="rId2"/>
          <a:srcRect l="0" t="0" r="11277" b="0"/>
          <a:stretch/>
        </p:blipFill>
        <p:spPr>
          <a:xfrm>
            <a:off x="0" y="0"/>
            <a:ext cx="412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800600" y="517680"/>
            <a:ext cx="32767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660066"/>
                </a:solidFill>
                <a:latin typeface="Arial"/>
                <a:cs typeface="Sultan Medium"/>
              </a:rPr>
              <a:t>الجهاز الهضم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660066"/>
                </a:solidFill>
                <a:latin typeface="Arial"/>
                <a:ea typeface="Sultan Medium"/>
              </a:rPr>
              <a:t> ف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660066"/>
                </a:solidFill>
                <a:latin typeface="Arial"/>
                <a:ea typeface="Sultan Medium"/>
              </a:rPr>
              <a:t> جس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660066"/>
                </a:solidFill>
                <a:latin typeface="Arial"/>
                <a:ea typeface="Sultan Medium"/>
              </a:rPr>
              <a:t> الانسا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828800" y="304920"/>
            <a:ext cx="656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660066"/>
                </a:solidFill>
                <a:latin typeface="Arial"/>
                <a:ea typeface="Sultan Medium"/>
              </a:rPr>
              <a:t>1</a:t>
            </a:r>
            <a:r>
              <a:rPr b="0" lang="ar-AE" sz="4000" spc="-1" strike="noStrike">
                <a:solidFill>
                  <a:srgbClr val="660066"/>
                </a:solidFill>
                <a:latin typeface="Arial"/>
                <a:ea typeface="Sultan Medium"/>
              </a:rPr>
              <a:t>-  الهضم يبدأ في الفم .... الأسنا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eeth"/>
          <p:cNvPicPr/>
          <p:nvPr/>
        </p:nvPicPr>
        <p:blipFill>
          <a:blip r:embed="rId1"/>
          <a:stretch/>
        </p:blipFill>
        <p:spPr>
          <a:xfrm>
            <a:off x="0" y="1797120"/>
            <a:ext cx="6324480" cy="5060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943600" y="1447920"/>
            <a:ext cx="2819520" cy="33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d0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Sultan normal"/>
              </a:rPr>
              <a:t>الهضم الميكانيكي بواسطة الاسنان  فهي تطحن الغذاء وتحط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819520" y="304920"/>
            <a:ext cx="55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660066"/>
                </a:solidFill>
                <a:latin typeface="Arial"/>
                <a:cs typeface="Sultan normal"/>
              </a:rPr>
              <a:t>الهضم يبدأ في الفم 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380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ما هي المين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outh"/>
          <p:cNvPicPr/>
          <p:nvPr/>
        </p:nvPicPr>
        <p:blipFill>
          <a:blip r:embed="rId1"/>
          <a:stretch/>
        </p:blipFill>
        <p:spPr>
          <a:xfrm>
            <a:off x="1930320" y="1371600"/>
            <a:ext cx="47754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819520" y="304920"/>
            <a:ext cx="557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660066"/>
                </a:solidFill>
                <a:latin typeface="Arial"/>
                <a:ea typeface="Sultan normal"/>
              </a:rPr>
              <a:t>2</a:t>
            </a:r>
            <a:r>
              <a:rPr b="0" lang="ar-AE" sz="4000" spc="-1" strike="noStrike">
                <a:solidFill>
                  <a:srgbClr val="660066"/>
                </a:solidFill>
                <a:latin typeface="Arial"/>
                <a:ea typeface="Sultan normal"/>
              </a:rPr>
              <a:t>-  الهضم يبدأ في الفم .... اللعا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aliva"/>
          <p:cNvPicPr/>
          <p:nvPr/>
        </p:nvPicPr>
        <p:blipFill>
          <a:blip r:embed="rId1"/>
          <a:stretch/>
        </p:blipFill>
        <p:spPr>
          <a:xfrm>
            <a:off x="533520" y="2654280"/>
            <a:ext cx="7619760" cy="4203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0" y="1552680"/>
            <a:ext cx="9144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Sultan normal"/>
              </a:rPr>
              <a:t>تفرزه الغدد اللعابية  ويحوي انزيمات يبدا فيه الهضم الكيمائ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819520" y="304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3</a:t>
            </a: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- الهضم بعد الفم ........... المري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whole"/>
          <p:cNvPicPr/>
          <p:nvPr/>
        </p:nvPicPr>
        <p:blipFill>
          <a:blip r:embed="rId1"/>
          <a:srcRect l="2241" t="1724" r="3731" b="40625"/>
          <a:stretch/>
        </p:blipFill>
        <p:spPr>
          <a:xfrm>
            <a:off x="5544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648320" y="2057400"/>
            <a:ext cx="4038480" cy="436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Sultan Medium"/>
              </a:rPr>
              <a:t>يدفع اللسان الغذاء الى البلعوم  من ثم الى المريء  ويدفع المريء الطعام الى المعدة بواسطة الحركة الدود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8006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تكمله فيلم الباص العجيب 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8" descr="imag1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819520" y="76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4</a:t>
            </a: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- المعدة و الهضم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80880" y="838080"/>
            <a:ext cx="82296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Sultan Medium"/>
              </a:rPr>
              <a:t>يهضم الطعام في المعدة بطريقيتن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7015320" y="1523880"/>
            <a:ext cx="1976400" cy="3202920"/>
            <a:chOff x="7015320" y="1523880"/>
            <a:chExt cx="1976400" cy="3202920"/>
          </a:xfrm>
        </p:grpSpPr>
        <p:sp>
          <p:nvSpPr>
            <p:cNvPr id="117" name="AutoShape 6"/>
            <p:cNvSpPr/>
            <p:nvPr/>
          </p:nvSpPr>
          <p:spPr>
            <a:xfrm>
              <a:off x="7015320" y="1523880"/>
              <a:ext cx="583920" cy="866880"/>
            </a:xfrm>
            <a:prstGeom prst="downArrow">
              <a:avLst>
                <a:gd name="adj1" fmla="val 50000"/>
                <a:gd name="adj2" fmla="val 37115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7086600" y="2438280"/>
              <a:ext cx="1905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Arial"/>
                  <a:cs typeface="Sultan normal"/>
                </a:rPr>
                <a:t>عصر الطعام ميكانيكا عبر الانقباضات العضل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228600" y="1447920"/>
            <a:ext cx="1905120" cy="3949560"/>
            <a:chOff x="228600" y="1447920"/>
            <a:chExt cx="1905120" cy="3949560"/>
          </a:xfrm>
        </p:grpSpPr>
        <p:sp>
          <p:nvSpPr>
            <p:cNvPr id="120" name="AutoShape 7"/>
            <p:cNvSpPr/>
            <p:nvPr/>
          </p:nvSpPr>
          <p:spPr>
            <a:xfrm>
              <a:off x="1219320" y="1447920"/>
              <a:ext cx="533160" cy="761760"/>
            </a:xfrm>
            <a:prstGeom prst="downArrow">
              <a:avLst>
                <a:gd name="adj1" fmla="val 50000"/>
                <a:gd name="adj2" fmla="val 3571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228600" y="2743200"/>
              <a:ext cx="1905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Arial"/>
                  <a:cs typeface="Sultan normal"/>
                </a:rPr>
                <a:t>تفكيك الطعام الى جزيئات صغيرة بواسطة الحمض والانزيمات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6"/>
          <p:cNvGrpSpPr/>
          <p:nvPr/>
        </p:nvGrpSpPr>
        <p:grpSpPr>
          <a:xfrm>
            <a:off x="1219320" y="5459760"/>
            <a:ext cx="6476760" cy="1019160"/>
            <a:chOff x="1219320" y="5459760"/>
            <a:chExt cx="6476760" cy="1019160"/>
          </a:xfrm>
        </p:grpSpPr>
        <p:sp>
          <p:nvSpPr>
            <p:cNvPr id="123" name="Text Box 27"/>
            <p:cNvSpPr/>
            <p:nvPr/>
          </p:nvSpPr>
          <p:spPr>
            <a:xfrm>
              <a:off x="1219320" y="5897520"/>
              <a:ext cx="647676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200" spc="-1" strike="noStrike">
                  <a:solidFill>
                    <a:srgbClr val="660033"/>
                  </a:solidFill>
                  <a:latin typeface="Arial"/>
                  <a:cs typeface="Sultan Medium"/>
                </a:rPr>
                <a:t>تقتل البكتيريا + يتكون الكيمو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28"/>
            <p:cNvGrpSpPr/>
            <p:nvPr/>
          </p:nvGrpSpPr>
          <p:grpSpPr>
            <a:xfrm>
              <a:off x="3676680" y="5459760"/>
              <a:ext cx="1104120" cy="586800"/>
              <a:chOff x="3676680" y="5459760"/>
              <a:chExt cx="1104120" cy="586800"/>
            </a:xfrm>
          </p:grpSpPr>
          <p:sp>
            <p:nvSpPr>
              <p:cNvPr id="125" name="AutoShape 29"/>
              <p:cNvSpPr/>
              <p:nvPr/>
            </p:nvSpPr>
            <p:spPr>
              <a:xfrm rot="19393200">
                <a:off x="3809880" y="5486040"/>
                <a:ext cx="266400" cy="533520"/>
              </a:xfrm>
              <a:prstGeom prst="downArrow">
                <a:avLst>
                  <a:gd name="adj1" fmla="val 50000"/>
                  <a:gd name="adj2" fmla="val 50068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30"/>
              <p:cNvSpPr/>
              <p:nvPr/>
            </p:nvSpPr>
            <p:spPr>
              <a:xfrm flipH="1" rot="2206800">
                <a:off x="4380840" y="5486400"/>
                <a:ext cx="266400" cy="533520"/>
              </a:xfrm>
              <a:prstGeom prst="downArrow">
                <a:avLst>
                  <a:gd name="adj1" fmla="val 50000"/>
                  <a:gd name="adj2" fmla="val 50068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819520" y="76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5</a:t>
            </a:r>
            <a:r>
              <a:rPr b="0" lang="ar-AE" sz="3600" spc="-1" strike="noStrike">
                <a:solidFill>
                  <a:srgbClr val="660066"/>
                </a:solidFill>
                <a:latin typeface="Arial"/>
                <a:ea typeface="Sultan Medium"/>
              </a:rPr>
              <a:t>- بعد المعدة.. الامعا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76212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ultan Medium"/>
              </a:rPr>
              <a:t>الكيموس يدفع به الى الامعاء الدقيقة  ويخلط مع افرازات من الكبد والبنكرياس  وتمنع الكيموس من الحاق الاذى بالامعاء بحمضه الق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ultan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الهاز الهضمى"/>
          <p:cNvPicPr/>
          <p:nvPr/>
        </p:nvPicPr>
        <p:blipFill>
          <a:blip r:embed="rId1"/>
          <a:stretch/>
        </p:blipFill>
        <p:spPr>
          <a:xfrm>
            <a:off x="0" y="1830240"/>
            <a:ext cx="67914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257800" y="1219320"/>
            <a:ext cx="3429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معظم الهضم الكيميائي يتم  بعد المعد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في الامعاء الدقيقة والبنكريا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سءس"/>
          <p:cNvPicPr/>
          <p:nvPr/>
        </p:nvPicPr>
        <p:blipFill>
          <a:blip r:embed="rId1"/>
          <a:srcRect l="4904" t="7692" r="4290" b="769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6491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عرض فيلم الهضم مع الانزيم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14400" y="228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ما هي الامعاء الدقيقة    ؟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ntestine"/>
          <p:cNvPicPr/>
          <p:nvPr/>
        </p:nvPicPr>
        <p:blipFill>
          <a:blip r:embed="rId1"/>
          <a:stretch/>
        </p:blipFill>
        <p:spPr>
          <a:xfrm>
            <a:off x="609480" y="1371600"/>
            <a:ext cx="4421160" cy="4624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/>
          <p:cNvSpPr/>
          <p:nvPr/>
        </p:nvSpPr>
        <p:spPr>
          <a:xfrm>
            <a:off x="4876920" y="1371600"/>
            <a:ext cx="304560" cy="4419720"/>
          </a:xfrm>
          <a:custGeom>
            <a:avLst/>
            <a:gdLst>
              <a:gd name="textAreaLeft" fmla="*/ 0 w 304560"/>
              <a:gd name="textAreaRight" fmla="*/ 109800 w 30456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638680" y="1373040"/>
            <a:ext cx="297180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انبوبة عضلية قطرها حوالي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2.5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طولها حوالي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6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امت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يغطي الجدار الداخلي للامعاء نتوءات صغيرة تشبه الاصابع تسم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800000"/>
                </a:solidFill>
                <a:latin typeface="Arial"/>
                <a:cs typeface="Sultan Medium"/>
              </a:rPr>
              <a:t>الخم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6491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عرض فيلم الهضم مع الانزيم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14400" y="228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ما هي الامعاء الدقيقة    ؟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876920" y="1371600"/>
            <a:ext cx="304560" cy="4419720"/>
          </a:xfrm>
          <a:custGeom>
            <a:avLst/>
            <a:gdLst>
              <a:gd name="textAreaLeft" fmla="*/ 0 w 304560"/>
              <a:gd name="textAreaRight" fmla="*/ 109800 w 30456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38680" y="1373040"/>
            <a:ext cx="297180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انبوبة عضلية قطرها حوالي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2.5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طولها حوالي 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6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Sultan normal"/>
              </a:rPr>
              <a:t> امت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يغطي الجدار الداخلي للامعاء نتوءات صغيرة تشبه الاصابع تسم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800000"/>
                </a:solidFill>
                <a:latin typeface="Arial"/>
                <a:cs typeface="Sultan Medium"/>
              </a:rPr>
              <a:t>الخم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src1240419586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liver_pic"/>
          <p:cNvPicPr/>
          <p:nvPr/>
        </p:nvPicPr>
        <p:blipFill>
          <a:blip r:embed="rId1"/>
          <a:srcRect l="24216" t="0" r="0" b="8955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533520" y="990720"/>
            <a:ext cx="3124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660066"/>
                </a:solidFill>
                <a:latin typeface="Arial"/>
                <a:cs typeface="Sultan normal"/>
              </a:rPr>
              <a:t>بعد الهضم والتفكيك يتم امتصاص المواد الغذائية  الى الدم  الى انحاء الجسم كافة  والتي لا يحتاجهات الجسم تخزن في الكب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d-j-had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3520" y="533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33"/>
                </a:solidFill>
                <a:latin typeface="Arial"/>
                <a:cs typeface="Sultan Medium"/>
              </a:rPr>
              <a:t>الف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410080" y="17524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33"/>
                </a:solidFill>
                <a:latin typeface="Arial"/>
                <a:cs typeface="Sultan Medium"/>
              </a:rPr>
              <a:t>المري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33412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33"/>
                </a:solidFill>
                <a:latin typeface="Arial"/>
                <a:cs typeface="Sultan Medium"/>
              </a:rPr>
              <a:t>المع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334120" y="4572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660033"/>
                </a:solidFill>
                <a:latin typeface="Arial"/>
                <a:cs typeface="Sultan Medium"/>
              </a:rPr>
              <a:t>الامعاء الدقي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54100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660033"/>
                </a:solidFill>
                <a:latin typeface="Arial"/>
                <a:cs typeface="Sultan Medium"/>
              </a:rPr>
              <a:t>الامعاء الغليظ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105520" y="5943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660033"/>
                </a:solidFill>
                <a:latin typeface="Arial"/>
                <a:cs typeface="Sultan Medium"/>
              </a:rPr>
              <a:t>المستق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419720" y="380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66"/>
                </a:solidFill>
                <a:latin typeface="Arial"/>
                <a:cs typeface="Sultan Medium"/>
              </a:rPr>
              <a:t>هل هذا هي فقط اعضاء الجهاز الهضمي 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n26"/>
          <p:cNvPicPr/>
          <p:nvPr/>
        </p:nvPicPr>
        <p:blipFill>
          <a:blip r:embed="rId1"/>
          <a:srcRect l="0" t="11744" r="0" b="0"/>
          <a:stretch/>
        </p:blipFill>
        <p:spPr>
          <a:xfrm>
            <a:off x="2362320" y="1219320"/>
            <a:ext cx="4543200" cy="4010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660066"/>
                </a:solidFill>
                <a:latin typeface="Arial"/>
                <a:cs typeface="Sultan Medium"/>
              </a:rPr>
              <a:t>الامعاء الغليظ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28600" y="51814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تحتفظ بالمواد غير القابلة للهضم – وتضغطها  مع امتصاص السوائل منها– ثم تطرحها خارج الج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src1240420094"/>
          <p:cNvPicPr/>
          <p:nvPr/>
        </p:nvPicPr>
        <p:blipFill>
          <a:blip r:embed="rId1"/>
          <a:stretch/>
        </p:blipFill>
        <p:spPr>
          <a:xfrm>
            <a:off x="190512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62120" y="228600"/>
            <a:ext cx="769608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660066"/>
                </a:solidFill>
                <a:latin typeface="Arial"/>
                <a:cs typeface="Sultan Medium"/>
              </a:rPr>
              <a:t>تدخل المواد غير المهضومة  بشكل غليظ تمتص هذه الامعاء الماء وتحول الخليط الى فضلات شبه صلبه هي </a:t>
            </a:r>
            <a:r>
              <a:rPr b="1" lang="ar-AE" sz="3600" spc="-1" strike="noStrike">
                <a:solidFill>
                  <a:srgbClr val="800000"/>
                </a:solidFill>
                <a:latin typeface="Arial"/>
                <a:cs typeface="Sultan Medium"/>
              </a:rPr>
              <a:t>البرا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800000"/>
                </a:solidFill>
                <a:latin typeface="Arial"/>
                <a:cs typeface="Sultan Medium"/>
              </a:rPr>
              <a:t>والذي يطرح عن طريق المستقيم في نهاية الامعاء الغلي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762120" y="22860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660066"/>
                </a:solidFill>
                <a:latin typeface="Arial"/>
                <a:cs typeface="Sultan Medium"/>
              </a:rPr>
              <a:t>من المفيد اكل القمح والفواكه والخضروات لانها تتحول الى الياف وهي مهمة جدا في حركة الامعاء الغليظة </a:t>
            </a:r>
            <a:r>
              <a:rPr b="1" lang="ar-AE" sz="3600" spc="-1" strike="noStrike">
                <a:solidFill>
                  <a:srgbClr val="800000"/>
                </a:solidFill>
                <a:latin typeface="Arial"/>
                <a:ea typeface="Sultan Medium"/>
              </a:rPr>
              <a:t> (السيليولي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_1234278067"/>
          <p:cNvPicPr/>
          <p:nvPr/>
        </p:nvPicPr>
        <p:blipFill>
          <a:blip r:embed="rId1"/>
          <a:stretch/>
        </p:blipFill>
        <p:spPr>
          <a:xfrm>
            <a:off x="1752480" y="1954080"/>
            <a:ext cx="54104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228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ما هي وظيفة  البنكرياس   ؟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990720"/>
            <a:ext cx="9144000" cy="224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ultan normal"/>
              </a:rPr>
              <a:t>يفرز سوائل تحمي الامعاء الدقيقة من حمض الكيمو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  <a:cs typeface="Sultan normal"/>
              </a:rPr>
              <a:t>يفرز سوائل تهضم الكيمو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0033"/>
                </a:solidFill>
                <a:latin typeface="Arial"/>
                <a:cs typeface="Sultan normal"/>
              </a:rPr>
              <a:t>يفرز هرمونات  تنظم مستوى السكر في الد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Pancreas_arabic"/>
          <p:cNvPicPr/>
          <p:nvPr/>
        </p:nvPicPr>
        <p:blipFill>
          <a:blip r:embed="rId1"/>
          <a:stretch/>
        </p:blipFill>
        <p:spPr>
          <a:xfrm>
            <a:off x="2590920" y="2962440"/>
            <a:ext cx="38448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14400" y="228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الكبد والحوصلة الصفراوي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0" y="2362320"/>
            <a:ext cx="5410080" cy="4038480"/>
            <a:chOff x="0" y="2362320"/>
            <a:chExt cx="5410080" cy="4038480"/>
          </a:xfrm>
        </p:grpSpPr>
        <p:pic>
          <p:nvPicPr>
            <p:cNvPr id="158" name="Picture 8" descr="74_1170973573"/>
            <p:cNvPicPr/>
            <p:nvPr/>
          </p:nvPicPr>
          <p:blipFill>
            <a:blip r:embed="rId1"/>
            <a:stretch/>
          </p:blipFill>
          <p:spPr>
            <a:xfrm>
              <a:off x="0" y="2362320"/>
              <a:ext cx="54036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9"/>
            <p:cNvSpPr/>
            <p:nvPr/>
          </p:nvSpPr>
          <p:spPr>
            <a:xfrm>
              <a:off x="0" y="5840280"/>
              <a:ext cx="180180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4141800" y="5840280"/>
              <a:ext cx="126828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838080" y="838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800000"/>
                </a:solidFill>
                <a:latin typeface="Arial"/>
                <a:cs typeface="Sultan normal"/>
              </a:rPr>
              <a:t>الكبد هذا العضو الكبير الذي يساهم في الهض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486400" y="2362320"/>
            <a:ext cx="34290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660066"/>
                </a:solidFill>
                <a:latin typeface="Arial"/>
                <a:cs typeface="Sultan normal"/>
              </a:rPr>
              <a:t>يصنع الصفراء لتفكيك الده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660066"/>
                </a:solidFill>
                <a:latin typeface="Arial"/>
                <a:cs typeface="Sultan normal"/>
              </a:rPr>
              <a:t>يخزن مواد غذائ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660066"/>
                </a:solidFill>
                <a:latin typeface="Arial"/>
                <a:cs typeface="Sultan normal"/>
              </a:rPr>
              <a:t>يحلل السمو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762120"/>
            <a:ext cx="32385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660066"/>
                </a:solidFill>
                <a:latin typeface="Arial"/>
                <a:cs typeface="Sultan Medium"/>
              </a:rPr>
              <a:t>تفكيك الده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n24"/>
          <p:cNvPicPr/>
          <p:nvPr/>
        </p:nvPicPr>
        <p:blipFill>
          <a:blip r:embed="rId1"/>
          <a:srcRect l="1226" t="9728" r="1688" b="1407"/>
          <a:stretch/>
        </p:blipFill>
        <p:spPr>
          <a:xfrm>
            <a:off x="3124080" y="0"/>
            <a:ext cx="601992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1"/>
          <p:cNvSpPr/>
          <p:nvPr/>
        </p:nvSpPr>
        <p:spPr>
          <a:xfrm>
            <a:off x="0" y="5073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 u="sng">
                <a:solidFill>
                  <a:srgbClr val="800000"/>
                </a:solidFill>
                <a:uFillTx/>
                <a:latin typeface="Arial"/>
                <a:cs typeface="Sultan normal"/>
              </a:rPr>
              <a:t>تصب الصفراء من الحوصلة الى الامعاء  الدقيقة حيث تحول القطرات الدهنية الكبيرة الى اصغر منها وتعرض الانزيمات الهضمية للجزيئات الده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rot="3631800">
            <a:off x="6198480" y="3332880"/>
            <a:ext cx="2171520" cy="1116000"/>
          </a:xfrm>
          <a:custGeom>
            <a:avLst/>
            <a:gdLst>
              <a:gd name="textAreaLeft" fmla="*/ 430920 w 2171520"/>
              <a:gd name="textAreaRight" fmla="*/ 1319040 w 2171520"/>
              <a:gd name="textAreaTop" fmla="*/ 149400 h 1116000"/>
              <a:gd name="textAreaBottom" fmla="*/ 96660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225000"/>
            <a:ext cx="84582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Sultan normal"/>
              </a:rPr>
              <a:t>ذلك الجهاز الذى يعمل فى صمت 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ultan normal"/>
              </a:rPr>
              <a:t> 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Sultan normal"/>
              </a:rPr>
              <a:t>ويحول اللحوم والخضروات الى مواد مغذية لخلايا الجسم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ultan normal"/>
              </a:rPr>
              <a:t> 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Sultan normal"/>
              </a:rPr>
              <a:t>نجد فيه ما يلى 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ultan normal"/>
              </a:rPr>
              <a:t>: </a:t>
            </a:r>
            <a:br>
              <a:rPr sz="2800"/>
            </a:br>
            <a:r>
              <a:rPr b="0" lang="ar-SA" sz="2400" spc="-1" strike="noStrike">
                <a:solidFill>
                  <a:srgbClr val="660033"/>
                </a:solidFill>
                <a:latin typeface="Arial"/>
                <a:cs typeface="Sultan Medium"/>
              </a:rPr>
              <a:t>المعدة تحتوى وحدها على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35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 مليون غدة للافراز </a:t>
            </a:r>
            <a:br>
              <a:rPr sz="2400"/>
            </a:br>
            <a:r>
              <a:rPr b="0" lang="ar-SA" sz="2400" spc="-1" strike="noStrike">
                <a:solidFill>
                  <a:srgbClr val="660033"/>
                </a:solidFill>
                <a:latin typeface="Arial"/>
                <a:cs typeface="Sultan Medium"/>
              </a:rPr>
              <a:t>الخلايا الجدارية التى تفرز حمض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HCL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 تقدر بـــ مليار 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 </a:t>
            </a:r>
            <a:br>
              <a:rPr sz="2400"/>
            </a:br>
            <a:r>
              <a:rPr b="0" lang="ar-AE" sz="2400" spc="-1" strike="noStrike">
                <a:solidFill>
                  <a:srgbClr val="000066"/>
                </a:solidFill>
                <a:latin typeface="Arial"/>
                <a:cs typeface="Sultan Medium"/>
              </a:rPr>
              <a:t>ا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cs typeface="Sultan Medium"/>
              </a:rPr>
              <a:t>لكبد وهو اكبر غدة فى الجسم يزن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1500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 جم </a:t>
            </a:r>
            <a:br>
              <a:rPr sz="2400"/>
            </a:br>
            <a:r>
              <a:rPr b="0" lang="ar-SA" sz="2400" spc="-1" strike="noStrike">
                <a:solidFill>
                  <a:srgbClr val="000066"/>
                </a:solidFill>
                <a:latin typeface="Arial"/>
                <a:cs typeface="Sultan Medium"/>
              </a:rPr>
              <a:t>يحتوى على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300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 مليار خلية يمكن ان تتجدد كليا خلال 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4</a:t>
            </a:r>
            <a:r>
              <a:rPr b="0" lang="ar-SA" sz="2400" spc="-1" strike="noStrike">
                <a:solidFill>
                  <a:srgbClr val="000066"/>
                </a:solidFill>
                <a:latin typeface="Arial"/>
                <a:ea typeface="Sultan Medium"/>
              </a:rPr>
              <a:t> شه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Sultan Medium"/>
              </a:rPr>
              <a:t>يحدث فى الكبد حوالى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500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 عملية كيميائية </a:t>
            </a:r>
            <a:br>
              <a:rPr sz="2400"/>
            </a:b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Sultan Medium"/>
              </a:rPr>
              <a:t>البنكرياس توجد به جزيرات اسمها لانجرهانز عددها ما بين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200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 الف الى مليون و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800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Sultan Medium"/>
              </a:rPr>
              <a:t> الف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Arial"/>
                <a:cs typeface="Sultan Medium"/>
              </a:rPr>
              <a:t>الامعاء طولها 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8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 متروتفرش مساحة 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40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 متر مربع للامتصاص الذى يعطيها هذه المساحة تركيب يسمى الخملات عددها يبلغ المليارات</a:t>
            </a:r>
            <a:br>
              <a:rPr sz="2400"/>
            </a:br>
            <a:r>
              <a:rPr b="0" lang="ar-SA" sz="2400" spc="-1" strike="noStrike">
                <a:solidFill>
                  <a:srgbClr val="663300"/>
                </a:solidFill>
                <a:latin typeface="Arial"/>
                <a:cs typeface="Sultan Medium"/>
              </a:rPr>
              <a:t>ثبت ان الخلية المعوية تولد وتموت فى 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48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Sultan Medium"/>
              </a:rPr>
              <a:t> ساعة وتتجدد باستمرار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ea typeface="Sultan Medium"/>
              </a:rPr>
              <a:t>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914400" y="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660066"/>
                </a:solidFill>
                <a:latin typeface="Arial"/>
                <a:cs typeface="Sultan Medium"/>
              </a:rPr>
              <a:t>ماهو الجهاز الهضمي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"/>
          <p:cNvGrpSpPr/>
          <p:nvPr/>
        </p:nvGrpSpPr>
        <p:grpSpPr>
          <a:xfrm>
            <a:off x="1219320" y="1981080"/>
            <a:ext cx="6933600" cy="4876560"/>
            <a:chOff x="1219320" y="1981080"/>
            <a:chExt cx="6933600" cy="4876560"/>
          </a:xfrm>
        </p:grpSpPr>
        <p:pic>
          <p:nvPicPr>
            <p:cNvPr id="54" name="Picture 4" descr="11271_1165164979"/>
            <p:cNvPicPr/>
            <p:nvPr/>
          </p:nvPicPr>
          <p:blipFill>
            <a:blip r:embed="rId1"/>
            <a:srcRect l="4445" t="4446" r="3335" b="6667"/>
            <a:stretch/>
          </p:blipFill>
          <p:spPr>
            <a:xfrm>
              <a:off x="1219320" y="2010960"/>
              <a:ext cx="67053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5"/>
            <p:cNvSpPr/>
            <p:nvPr/>
          </p:nvSpPr>
          <p:spPr>
            <a:xfrm>
              <a:off x="5714640" y="1981080"/>
              <a:ext cx="243828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7"/>
          <p:cNvSpPr/>
          <p:nvPr/>
        </p:nvSpPr>
        <p:spPr>
          <a:xfrm>
            <a:off x="533520" y="1066680"/>
            <a:ext cx="79246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ultan normal"/>
              </a:rPr>
              <a:t>مجموعة الاعضاء التي تعمل معا لهضم الطعام كي يتمكن الجسم من استخدا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5943600" y="4419720"/>
            <a:ext cx="1676520" cy="1676160"/>
          </a:xfrm>
          <a:prstGeom prst="ellipse">
            <a:avLst/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733920" y="0"/>
            <a:ext cx="46479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et-3-2009-6u1gk7j5"/>
          <p:cNvPicPr/>
          <p:nvPr/>
        </p:nvPicPr>
        <p:blipFill>
          <a:blip r:embed="rId1"/>
          <a:stretch/>
        </p:blipFill>
        <p:spPr>
          <a:xfrm>
            <a:off x="0" y="0"/>
            <a:ext cx="2467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581280" y="53352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000000"/>
                </a:solidFill>
                <a:uFillTx/>
                <a:latin typeface="Arial"/>
                <a:cs typeface="Sultan normal"/>
              </a:rPr>
              <a:t>ما هي القناة الهضمية وكم طولها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2057400" y="685800"/>
            <a:ext cx="1219320" cy="5943600"/>
            <a:chOff x="2057400" y="685800"/>
            <a:chExt cx="1219320" cy="5943600"/>
          </a:xfrm>
        </p:grpSpPr>
        <p:sp>
          <p:nvSpPr>
            <p:cNvPr id="62" name="AutoShape 4"/>
            <p:cNvSpPr/>
            <p:nvPr/>
          </p:nvSpPr>
          <p:spPr>
            <a:xfrm>
              <a:off x="2438280" y="685800"/>
              <a:ext cx="228600" cy="59436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247320 h 5943600"/>
                <a:gd name="textAreaBottom" fmla="*/ 569628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2057400" y="1905120"/>
              <a:ext cx="1219320" cy="10688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200" spc="-1" strike="noStrike">
                  <a:solidFill>
                    <a:srgbClr val="000000"/>
                  </a:solidFill>
                  <a:latin typeface="Arial"/>
                  <a:ea typeface="Sultan normal"/>
                </a:rPr>
                <a:t>9</a:t>
              </a:r>
              <a:r>
                <a:rPr b="0" lang="ar-AE" sz="3200" spc="-1" strike="noStrike">
                  <a:solidFill>
                    <a:srgbClr val="000000"/>
                  </a:solidFill>
                  <a:latin typeface="Arial"/>
                  <a:ea typeface="Sultan normal"/>
                </a:rPr>
                <a:t> أمتا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6"/>
          <p:cNvSpPr/>
          <p:nvPr/>
        </p:nvSpPr>
        <p:spPr>
          <a:xfrm>
            <a:off x="4191120" y="1586880"/>
            <a:ext cx="362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Arial"/>
                <a:cs typeface="Sultan Medium"/>
              </a:rPr>
              <a:t>هي قناة تمتد من الفم إلى الشر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Arial"/>
                <a:ea typeface="Sultan Medium"/>
              </a:rPr>
              <a:t> </a:t>
            </a:r>
            <a:r>
              <a:rPr b="0" lang="ar-AE" sz="3600" spc="-1" strike="noStrike">
                <a:solidFill>
                  <a:srgbClr val="cc3300"/>
                </a:solidFill>
                <a:latin typeface="Arial"/>
                <a:ea typeface="Sultan Medium"/>
              </a:rPr>
              <a:t> ويمر عبرها الطعام  وهي ( </a:t>
            </a:r>
            <a:r>
              <a:rPr b="0" lang="ar-AE" sz="3600" spc="-1" strike="noStrike">
                <a:solidFill>
                  <a:srgbClr val="003300"/>
                </a:solidFill>
                <a:latin typeface="Arial"/>
                <a:cs typeface="Sultan Medium"/>
              </a:rPr>
              <a:t>الفم – البلعوم – المريء – المعدة – الامعاء الدقيقة والغليظة والمستقيم والشرج</a:t>
            </a:r>
            <a:r>
              <a:rPr b="0" lang="ar-AE" sz="3600" spc="-1" strike="noStrike">
                <a:solidFill>
                  <a:srgbClr val="cc3300"/>
                </a:solidFill>
                <a:latin typeface="Arial"/>
                <a:ea typeface="Sultan Medium"/>
              </a:rPr>
              <a:t>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220320" cy="1191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Arial"/>
                <a:cs typeface="Sultan Medium"/>
              </a:rPr>
              <a:t>ما الفرق بين الهضم الميكانيكي والهضم الكيميائي 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080606-152412-291007"/>
          <p:cNvPicPr/>
          <p:nvPr/>
        </p:nvPicPr>
        <p:blipFill>
          <a:blip r:embed="rId1"/>
          <a:stretch/>
        </p:blipFill>
        <p:spPr>
          <a:xfrm>
            <a:off x="5410080" y="762120"/>
            <a:ext cx="285588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hemistry-stuff"/>
          <p:cNvPicPr/>
          <p:nvPr/>
        </p:nvPicPr>
        <p:blipFill>
          <a:blip r:embed="rId2"/>
          <a:stretch/>
        </p:blipFill>
        <p:spPr>
          <a:xfrm>
            <a:off x="609480" y="838080"/>
            <a:ext cx="3333960" cy="3171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5562720" y="441972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660033"/>
                </a:solidFill>
                <a:latin typeface="Arial"/>
                <a:cs typeface="Sultan Medium"/>
              </a:rPr>
              <a:t>الهضم الميكانيكي هو تقطيع الطعام الى قطع صغي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28600" y="456732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c00000"/>
                </a:solidFill>
                <a:latin typeface="Arial"/>
                <a:cs typeface="Sultan Medium"/>
              </a:rPr>
              <a:t>الهضم الكيميائي هو تحويل الوحدات الكبيرة  الى وحدات او جزيئات اصغر يسهل على الجسم استخدام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783320"/>
          </a:xfrm>
          <a:prstGeom prst="rect">
            <a:avLst/>
          </a:prstGeom>
          <a:ln w="9360">
            <a:solidFill>
              <a:srgbClr val="66ff33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0" y="0"/>
            <a:ext cx="9220320" cy="1191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Arial"/>
                <a:cs typeface="Sultan Medium"/>
              </a:rPr>
              <a:t>ما الفرق بين الهضم الميكانيكي والهضم الكيميائي 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gestive021.jpg"/>
          <p:cNvPicPr/>
          <p:nvPr/>
        </p:nvPicPr>
        <p:blipFill>
          <a:blip r:embed="rId1"/>
          <a:stretch/>
        </p:blipFill>
        <p:spPr>
          <a:xfrm>
            <a:off x="4343400" y="380880"/>
            <a:ext cx="4416480" cy="625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0" y="0"/>
            <a:ext cx="5029200" cy="764280"/>
          </a:xfrm>
          <a:prstGeom prst="rect">
            <a:avLst/>
          </a:prstGeom>
          <a:solidFill>
            <a:srgbClr val="d0eaec"/>
          </a:solidFill>
          <a:ln w="9360">
            <a:solidFill>
              <a:srgbClr val="d0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660033"/>
                </a:solidFill>
                <a:latin typeface="Arial"/>
                <a:cs typeface="Sultan Medium"/>
              </a:rPr>
              <a:t>تفكيك الطع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914400" y="1339920"/>
            <a:ext cx="4800240" cy="825480"/>
            <a:chOff x="914400" y="1339920"/>
            <a:chExt cx="4800240" cy="825480"/>
          </a:xfrm>
        </p:grpSpPr>
        <p:sp>
          <p:nvSpPr>
            <p:cNvPr id="75" name="AutoShape 6"/>
            <p:cNvSpPr/>
            <p:nvPr/>
          </p:nvSpPr>
          <p:spPr>
            <a:xfrm>
              <a:off x="4214520" y="1492200"/>
              <a:ext cx="1500120" cy="381240"/>
            </a:xfrm>
            <a:prstGeom prst="rightArrow">
              <a:avLst>
                <a:gd name="adj1" fmla="val 50000"/>
                <a:gd name="adj2" fmla="val 98371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914400" y="1339920"/>
              <a:ext cx="330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400" spc="-1" strike="noStrike">
                  <a:solidFill>
                    <a:srgbClr val="000000"/>
                  </a:solidFill>
                  <a:latin typeface="Arial"/>
                  <a:cs typeface="Sultan Medium"/>
                </a:rPr>
                <a:t>البروتينات والكربوهيدرات والدهو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380880" y="2514600"/>
            <a:ext cx="3886200" cy="2666880"/>
          </a:xfrm>
          <a:prstGeom prst="wedgeRoundRectCallout">
            <a:avLst>
              <a:gd name="adj1" fmla="val 97060"/>
              <a:gd name="adj2" fmla="val 1726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52280" y="245088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Arial"/>
                <a:cs typeface="Sultan normal"/>
              </a:rPr>
              <a:t>الكربوهيدرات</a:t>
            </a:r>
            <a:r>
              <a:rPr b="1" lang="ar-AE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      </a:t>
            </a:r>
            <a:r>
              <a:rPr b="1" lang="ar-SA" sz="2400" spc="-1" strike="noStrike">
                <a:solidFill>
                  <a:srgbClr val="660066"/>
                </a:solidFill>
                <a:latin typeface="Arial"/>
                <a:cs typeface="Sultan normal"/>
              </a:rPr>
              <a:t>سكاكر أحادية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و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  <a:cs typeface="Sultan normal"/>
              </a:rPr>
              <a:t>البروتينات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</a:t>
            </a:r>
            <a:r>
              <a:rPr b="1" lang="ar-AE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          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  <a:cs typeface="Sultan normal"/>
              </a:rPr>
              <a:t>أحماض أمينية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Arial"/>
                <a:cs typeface="Sultan normal"/>
              </a:rPr>
              <a:t>و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Sultan normal"/>
              </a:rPr>
              <a:t>الدهون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</a:t>
            </a:r>
            <a:r>
              <a:rPr b="1" lang="ar-AE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                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Sultan normal"/>
              </a:rPr>
              <a:t>أحماض دهنية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ليسهل امتصاص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Arial"/>
                <a:cs typeface="Sultan normal"/>
              </a:rPr>
              <a:t>إلى</a:t>
            </a:r>
            <a:r>
              <a:rPr b="1" lang="ar-AE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الدم وهذا ما يسم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بعملية الهضم </a:t>
            </a:r>
            <a:r>
              <a:rPr b="1" lang="ar-AE" sz="2400" spc="-1" strike="noStrike">
                <a:solidFill>
                  <a:srgbClr val="003366"/>
                </a:solidFill>
                <a:latin typeface="Arial"/>
                <a:ea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0" y="0"/>
            <a:ext cx="9220320" cy="64260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Arial"/>
                <a:cs typeface="Sultan Medium"/>
              </a:rPr>
              <a:t>ولكن اين يبدأ هضم كل من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34120" y="1523880"/>
            <a:ext cx="358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  <a:cs typeface="Sultan Medium"/>
              </a:rPr>
              <a:t>الكربوهيد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  <a:cs typeface="Sultan Medium"/>
              </a:rPr>
              <a:t>البروتين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  <a:cs typeface="Sultan Medium"/>
              </a:rPr>
              <a:t>الده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eft Arrow 6"/>
          <p:cNvSpPr/>
          <p:nvPr/>
        </p:nvSpPr>
        <p:spPr>
          <a:xfrm>
            <a:off x="3657600" y="1600200"/>
            <a:ext cx="1447920" cy="7621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eft Arrow 7"/>
          <p:cNvSpPr/>
          <p:nvPr/>
        </p:nvSpPr>
        <p:spPr>
          <a:xfrm>
            <a:off x="3733920" y="3048120"/>
            <a:ext cx="1447560" cy="7617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eft Arrow 8"/>
          <p:cNvSpPr/>
          <p:nvPr/>
        </p:nvSpPr>
        <p:spPr>
          <a:xfrm>
            <a:off x="3733920" y="4495680"/>
            <a:ext cx="1447560" cy="76212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0" y="1523880"/>
            <a:ext cx="358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0000"/>
                </a:solidFill>
                <a:latin typeface="Arial"/>
                <a:cs typeface="Sultan Medium"/>
              </a:rPr>
              <a:t>الف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0000"/>
                </a:solidFill>
                <a:latin typeface="Arial"/>
                <a:cs typeface="Sultan Medium"/>
              </a:rPr>
              <a:t>المع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0000"/>
                </a:solidFill>
                <a:latin typeface="Arial"/>
                <a:cs typeface="Sultan Medium"/>
              </a:rPr>
              <a:t>الامعاء الدقيق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-Point Star 10"/>
          <p:cNvSpPr/>
          <p:nvPr/>
        </p:nvSpPr>
        <p:spPr>
          <a:xfrm>
            <a:off x="1371600" y="15228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Argosy3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Arial"/>
                <a:cs typeface="Sultan Medium"/>
              </a:rPr>
              <a:t>عمل الانزيمات في تفكيك الطعا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609480" y="990720"/>
            <a:ext cx="7162920" cy="1752480"/>
            <a:chOff x="609480" y="990720"/>
            <a:chExt cx="7162920" cy="1752480"/>
          </a:xfrm>
        </p:grpSpPr>
        <p:pic>
          <p:nvPicPr>
            <p:cNvPr id="89" name="Picture 5" descr="exp_human101"/>
            <p:cNvPicPr/>
            <p:nvPr/>
          </p:nvPicPr>
          <p:blipFill>
            <a:blip r:embed="rId2"/>
            <a:stretch/>
          </p:blipFill>
          <p:spPr>
            <a:xfrm>
              <a:off x="609480" y="990720"/>
              <a:ext cx="1575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7"/>
            <p:cNvSpPr/>
            <p:nvPr/>
          </p:nvSpPr>
          <p:spPr>
            <a:xfrm>
              <a:off x="1905120" y="990720"/>
              <a:ext cx="5867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000" spc="-1" strike="noStrike">
                  <a:solidFill>
                    <a:srgbClr val="000000"/>
                  </a:solidFill>
                  <a:latin typeface="Arial"/>
                  <a:cs typeface="Sultan Medium"/>
                </a:rPr>
                <a:t>تتكون البروتينات من سلاسل من الاحماض الاميني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2"/>
          <p:cNvGrpSpPr/>
          <p:nvPr/>
        </p:nvGrpSpPr>
        <p:grpSpPr>
          <a:xfrm>
            <a:off x="609480" y="1662840"/>
            <a:ext cx="7696440" cy="3428280"/>
            <a:chOff x="609480" y="1662840"/>
            <a:chExt cx="7696440" cy="3428280"/>
          </a:xfrm>
        </p:grpSpPr>
        <p:pic>
          <p:nvPicPr>
            <p:cNvPr id="92" name="Picture 6" descr="exp_human100"/>
            <p:cNvPicPr/>
            <p:nvPr/>
          </p:nvPicPr>
          <p:blipFill>
            <a:blip r:embed="rId3"/>
            <a:stretch/>
          </p:blipFill>
          <p:spPr>
            <a:xfrm>
              <a:off x="609480" y="2819520"/>
              <a:ext cx="416556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4"/>
            <p:cNvSpPr/>
            <p:nvPr/>
          </p:nvSpPr>
          <p:spPr>
            <a:xfrm>
              <a:off x="4724280" y="2819520"/>
              <a:ext cx="3581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400" spc="-1" strike="noStrike">
                  <a:solidFill>
                    <a:srgbClr val="000000"/>
                  </a:solidFill>
                  <a:latin typeface="Arial"/>
                  <a:cs typeface="Sultan normal"/>
                </a:rPr>
                <a:t>تقطع الانزيمات البروتينات الى سلاسل اصغر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6" descr="arrow1_up-left_lg_red"/>
            <p:cNvPicPr/>
            <p:nvPr/>
          </p:nvPicPr>
          <p:blipFill>
            <a:blip r:embed="rId4"/>
            <a:stretch/>
          </p:blipFill>
          <p:spPr>
            <a:xfrm rot="17875800">
              <a:off x="3397320" y="1783800"/>
              <a:ext cx="128268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23"/>
          <p:cNvGrpSpPr/>
          <p:nvPr/>
        </p:nvGrpSpPr>
        <p:grpSpPr>
          <a:xfrm>
            <a:off x="609480" y="5410080"/>
            <a:ext cx="8077320" cy="1220760"/>
            <a:chOff x="609480" y="5410080"/>
            <a:chExt cx="8077320" cy="1220760"/>
          </a:xfrm>
        </p:grpSpPr>
        <p:pic>
          <p:nvPicPr>
            <p:cNvPr id="96" name="Picture 15" descr="exp_human100"/>
            <p:cNvPicPr/>
            <p:nvPr/>
          </p:nvPicPr>
          <p:blipFill>
            <a:blip r:embed="rId5"/>
            <a:srcRect l="76834" t="0" r="0" b="46342"/>
            <a:stretch/>
          </p:blipFill>
          <p:spPr>
            <a:xfrm>
              <a:off x="2489040" y="5411520"/>
              <a:ext cx="96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7"/>
            <p:cNvSpPr/>
            <p:nvPr/>
          </p:nvSpPr>
          <p:spPr>
            <a:xfrm>
              <a:off x="3429000" y="5410080"/>
              <a:ext cx="52578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400" spc="-1" strike="noStrike">
                  <a:solidFill>
                    <a:srgbClr val="000000"/>
                  </a:solidFill>
                  <a:latin typeface="Arial"/>
                  <a:cs typeface="Sultan normal"/>
                </a:rPr>
                <a:t>الاحماض الامينية تدخل مجرى الدم وتصنع بروتينات جديد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8" descr="exp_human100"/>
            <p:cNvPicPr/>
            <p:nvPr/>
          </p:nvPicPr>
          <p:blipFill>
            <a:blip r:embed="rId6"/>
            <a:srcRect l="76834" t="0" r="0" b="46342"/>
            <a:stretch/>
          </p:blipFill>
          <p:spPr>
            <a:xfrm>
              <a:off x="1523880" y="5411520"/>
              <a:ext cx="9651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9" descr="exp_human100"/>
            <p:cNvPicPr/>
            <p:nvPr/>
          </p:nvPicPr>
          <p:blipFill>
            <a:blip r:embed="rId7"/>
            <a:srcRect l="76834" t="0" r="0" b="46342"/>
            <a:stretch/>
          </p:blipFill>
          <p:spPr>
            <a:xfrm>
              <a:off x="609480" y="5411520"/>
              <a:ext cx="96516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00:56Z</dcterms:created>
  <dc:creator>CHANGE_ME</dc:creator>
  <dc:description/>
  <dc:language>en-US</dc:language>
  <cp:lastModifiedBy>USER</cp:lastModifiedBy>
  <dcterms:modified xsi:type="dcterms:W3CDTF">2011-10-27T10:03:35Z</dcterms:modified>
  <cp:revision>209</cp:revision>
  <dc:subject/>
  <dc:title>Slide 1</dc:title>
</cp:coreProperties>
</file>